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8CB-3247-45A2-BCE6-73B2D1E0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6D2-C6F8-4B1B-BAB4-D91990B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B6E-E2A7-44B6-8C98-AFAB9BD9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551-79D9-4BFA-94D7-3E90268D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3148-F858-4E2A-A147-285838F7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755A-E54C-45E2-B7F3-76A0E550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61C8-AF5E-465B-B587-7B7C6F0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D9C3-3251-4572-BA2D-8F7F91F0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DED6-E5FA-45EE-B778-B6140BC3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4BF9-0328-449B-BCAF-7DB5E547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F5A-AE45-4584-86F5-14EA894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B8C-CB4D-49B0-A3B3-0BBEFE70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0665-A0D0-4F79-9BFA-60A7DC8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5858-1B2E-4E62-A294-9435D79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4775-6A74-477C-9438-0D722450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212F-2AC2-4BC0-A4D3-9092CEC6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B5AC-4D33-4B9E-9F8F-9628C819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607DB-4192-4FD0-B654-54D23D25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10FC4-106B-4F4B-8D32-374B26E0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8BE84-2606-4DAF-9E8A-AB411808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6C7A6-8D37-483D-9516-E5C968D3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1B8C8-D0A5-4888-BD5F-CD551014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236-12F2-40BE-B1E4-8E7959BF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56730-237A-4326-8464-D625853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0ED3A-1AC0-4C9A-B9D3-D5ED2C7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6E528-EE27-43B4-A4B3-19A5C98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920E5-F704-4737-B843-5D11B47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624D2-8705-4945-8312-84F7FDD3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A1518-181B-45BF-A8BC-D692C852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199B2-3078-4C86-938E-311F3B9A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7E0BC-FFCE-476C-8E47-F425A37C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6B4E0-AF64-46A8-88B8-172C5F75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3D7F5-AFEB-4D4A-AA4D-DCA01DB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C53-786A-400F-AECF-32B52C9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CF55B-6EA0-4BA7-BF91-1B305B42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72111-D10F-492C-A1C4-F1914C3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37C78-6D47-41A0-B230-FD36BE73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401F6-A4EF-4F5E-8805-185550D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3D2EF-8AE7-4FFC-891F-A45B1D3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EFFB2-80A0-443B-B336-21F8F40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ED6C1-110E-417E-A7E3-97B16F88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30983-F0FF-4E71-A1B3-1632B619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683C3-4A03-49D4-A225-0D9DFB0D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C2095-F9BA-4EE2-9BD3-0E4DDB9E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E3D-38FF-4A17-98D8-935776D1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51AF0-6898-4A18-BA42-37B5473A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39BA9-C243-445E-BE96-C14D86C6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6B69E-59BD-4F90-A5D1-EFE51A0F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86159-DE76-44EA-BC93-E58D5E4A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DAAA5-68E1-402F-A3EF-8B46FD35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4280B-569A-441E-8CD4-C21BE342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7240D-7C50-4C12-AC78-70A2282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305FC-5FD9-4D97-9B79-714C093B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9AC29-E174-46EB-AA24-1B4692FA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EAAD2-6ADA-478D-B5F6-312EF7C9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5F3-559F-49AA-8D2E-4CC9C12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8C831-43BF-42E4-88D5-3B1DCBAD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16E3C-194C-4145-BCE2-14712C60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D7A6E-B3F3-4908-A6D5-8806FF7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CF80F-4B6B-48C2-BEFE-32CA0D20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B97B-FF9B-4FD0-8EA3-D05C711C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FE2D8-44C7-42A3-A88B-B3EFD69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D7C77-C867-44A8-8FD9-BA1CAAA5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72B9-43C0-4FAE-AB63-8FCC28A4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57A2-F98C-4AAC-9723-CABF62F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492F-5C51-4353-A4E5-3EE939BE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B56-B2EE-42FD-BAE0-AE274472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56618-B240-4E3B-AA97-565C4B9B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1A9B7-9DBF-4D6A-8B43-74850CB7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16BE9-47CF-4763-8627-9FF3F8AF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672E5-901A-4BEA-897E-F170FA6F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EAC9E-9D87-4939-AC5C-B1E39FB2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773D7-6F6C-4656-93F5-4847D92D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192A7-BA4C-4F02-BDC9-58ED4F51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A7787-FA44-41CA-A3D5-20AE2F60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FE861-919F-4212-A279-8BFCF51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F57C1-1838-44AA-9D1D-EBDD496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403-52C4-4290-9E1B-ED9A31D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DF6E8-8D66-4C85-8141-6A6B7F6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6BBC0-4E70-45D5-9E75-A8271E3C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B2ACD-A93D-434E-833A-5D65372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6235C-8737-466C-A45C-F9AE493F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AF287-E746-46E2-A3F0-34539785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69556-97CB-4333-991B-53CA7D7A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3E6F3-C4F1-42F6-B46E-BAAE82D6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0DD29-5966-4128-80F5-7AE8B184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B8F5-1EE9-4C0E-8422-FBF2A8B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AD059-A177-4E8D-9A6F-CCEE9555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173-84B4-4DC8-BD60-F484F26E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BD1B7-179D-4DED-A689-14837B83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1910E-F1C7-4F87-9309-77B0871C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5D5A3-5CD8-4CD2-8E67-80ADF70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BF00-C7AE-4A96-BCF9-A6669F22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0D3C9-8B88-4AAB-85F2-BF28A97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06820-90EE-44BB-8550-82111960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7D592-F23C-41D5-87F9-8F2FD89B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9CC-A8E2-44C5-B56C-FB1BEBBCF4A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9842-C6E8-431D-A63E-5910827F9D6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C550-3FB2-48B7-9F01-D034AB39297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0D00-B172-428C-8FCD-B4D90F7AABF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8617-0371-4084-86A9-ED746248E80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D908-A7E9-49CD-AF8B-3CE3D9A1423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973-8E74-4DB2-807D-FA1008824A7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0DE-1EC5-409A-867D-606CD204AAA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</a:rPr>
              <a:t>The Special Needs of Female College Students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resented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Jeremy Jenkins, Hao Yuan, Tim Woodcock, and Dewayne Neele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sexual harassment continu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the educational context, sexual harassment is unwelcome behavior of a sexual nature that interferes with a student’s ability to learn, study, work or participate in school activ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omen are far more targeted and negatively impacted as opposed to men in all contex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mon misconcep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victim of sexual harassment can be of the same sex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victim does not have to be the person harassed but could be anyone affected by the offensive con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xual harassment may occur without leading to economic harm or discharge of the victi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xual harassment does not need to occur for a certain length of time before action can be taken against 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Ne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ed on the widespread occurrences of sexual harassment that continually plague the academic setting, females on college campuses need outlets and a means to be able to effectively deal with incidents of sexual harassment and discrimin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ny effort to combat this type of behavior must be well organized, implemented, and involve the entire campus commun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eded remed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wareness and educ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wareness about the prevalence of sexual harassment occurring in higher education must be communicat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xual harassment awareness groups should be developed in conjunction with student groups on campus whose members are predominately female (sororities, intramural clubs, honor societies, volunteer groups, etc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campus based media resources as an outlet to educate women on campus regarding harassment/discrimination and what they can do to report or help prevent 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eeded remedi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wareness and education continu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Sexual harassment orientation and training should be administered to not only female students but also to all incoming students (Efforts should be concentrated at female residence halls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Emphasis should be placed on providing female students, with information on how to access resources or personnel that could potentially help to resolve any incidents of sexual harassmen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mpus advisors, especially those that focus their efforts towards large female populations, should be trained on how to handle harassment and discrimination related complai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eded remed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mplementation and preven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itiate institution wide surveys that track female harassment related statistics, and use the figures gathered to develop programming, workshops, support groups etc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tilize the programs/groups you have developed and combine your institution’s efforts with other local universities or community based programs to maximize effectivene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courage female students to attend professional organizations that emphasize leadership and personal develop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eded remed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olicy and procedure review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urrent policies at the institution need to be reviewed to make sure they offer adequate protection to both the accuser and accus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porting, investigation, and record keeping procedures need to include reasonable time frames for completion and process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olicies should also be clear and comprehensiv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here do we stand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KU policy and procedu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Very comprehensive policies regarding sexual harassment and discrimination with reporting, investigation, and record keeping all addressed with great detail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onfidentiality, disclosure, and impartiality are all adequately addressed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No efforts directly geared towards female student popul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Students in general are not the focus of harassment related education and awareness effor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77680" indent="-219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exual Harassment/Discrimination Ques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ve you ever experienced any type of harassment/discrimination while attending colleg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would you report sexual harassment/discrimination or would you report it at all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do you think would help eliminate sexual harassment/discrimination on college campuse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changes would you make to sexual harassment/discrimination policies on college campuse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nviron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mp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wling Gre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rren Coun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monwealth of Kentuck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ited States of Amer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et Eart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ealth Concerns/Issu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xu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D’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xual and reproductive healt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vention educ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rea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hysiologic Nee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od, shelter and slee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f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urity of 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longingn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iends, family and intimac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rea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e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hievement and resp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lf-Actualiz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rality, creativity and lack of prejud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imate Partner Viole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cli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rrently 2.3 per 1,000 population in 2003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ighest recorded rate was 5.8 per 1,000 population 1993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mpus Statistic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on-to-Person viol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006 included 17 incid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tional V.s. Campus repor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oup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ecdot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le who touches females while they are not fully cognizant of their surrounding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mains undiscove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KU eff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ergency call st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cor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rmi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rst line of defen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ways be aware of the situ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mpus Safety Ques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o you feel safe at the college you’re attending?  Why or why not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hat improvements would you make in order to make a college campus safer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s a women on campus, do you ever feel nervous walking by yourself? If so, what makes you feel nervous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id the crime rate at your college influence your choice to attend there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f there were a series of serious crimes at your college, would you consider transferring to a different school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75f55"/>
                </a:solidFill>
                <a:latin typeface="Tw Cen MT"/>
              </a:rPr>
              <a:t>Thank You</a:t>
            </a:r>
            <a:endParaRPr b="0" lang="en-US" sz="9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ntal/Emotional/Spiritu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lationshi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iends/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xu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sonal development/high school transi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lf-Im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iritual developments/commit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et/Nutr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ting disord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lic aci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esity/weight lo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hysical activ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ssues/Concer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SE ARE SOME OF MANY ISSUES CONCERNS PERTAINING TO THE HEALTH NEEDS OF FEMALE COLLEGE STUD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to help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ental Health/Relationship Chang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nce you have been in college, how has your relationships changed with the following groups of peopl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r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oyfriend/Dat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ien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achers/Professo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tistics (Prevalenc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62% of female and 61% of male college students report having been sexually harassed at their univers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0 % or less of student sexual harassment victims attempt to report their experiences to a university offi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9% of students who experienced sexual harassment say the incident, or incidents, occurred in the dor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tistics (Implication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7% of female students who have been sexually harassed reported feeling self-conscious or embarra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2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%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female students who have been sexually harassed reported feeling afraid or sca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7% of female students stay away from particular buildings or places on campus as a result of sexual harass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xual Hara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sexual harassme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 defined by the Equal Employment Opportunity Commission (EEOC), sexual harassment is defined as any form of sexual discrimination that violates Title VII of the Civil Rights Act of 1964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other words…Any unwelcome sexual advances, requests for sexual favors, and other verbal/physical conduct in a sexual nature constitutes sexual harassment  when submission or rejection to these advances either implicitly or explicitly affects job or academic statu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20:27:20Z</dcterms:created>
  <dc:creator>Microcomputing</dc:creator>
  <dc:description/>
  <dc:language>en-US</dc:language>
  <cp:lastModifiedBy>NCC</cp:lastModifiedBy>
  <dcterms:modified xsi:type="dcterms:W3CDTF">2008-12-09T18:42:49Z</dcterms:modified>
  <cp:revision>51</cp:revision>
  <dc:subject/>
  <dc:title>Sexual Harassment</dc:title>
</cp:coreProperties>
</file>