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DCBC-027C-42AA-BF3E-02A5C213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04B5-F734-4950-85AE-EA9DA7EE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F37B-D8D9-4EBA-97B4-BFB7CD89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C0D3-4636-4473-A9D5-5975894F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9359-9790-46B7-9782-9BB84604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239A-6D67-4842-B13F-ECC5ABF6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983C-629C-4731-97CF-7131885F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15F3-9469-4E8D-9B1F-B55FAA22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F3B4-8228-415B-9079-C6CFCAFD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99AD-D20C-43B5-BB6F-3520F46E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96C7-A17A-45B3-BC2C-18B9AC9A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3334-B5E5-43DD-B546-C9C7929A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8EF8-8408-4747-A18E-A33FA372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71E5-CEF1-41D7-A99F-813F148B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E36D-A2B9-4A7A-86FA-BB9C2257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7611-3DA3-43D8-880A-4BBDB892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2A82-BABA-4EFD-984F-D92ACA82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429E5-B33C-446D-BDB1-D5C44EED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4C201-674B-4F13-AEEC-CD6BB4AF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50C63-367F-48C4-B86D-B04B6AFC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A4DC4-09EB-40ED-86A6-10D92C74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856A6-23BA-4860-B9FA-A77CAC7F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E6D0-3F60-4942-8BED-0E3FAE75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8BC9D-1942-4D63-96BF-C03CF3EF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4E104-38BA-4F5C-935B-E8377479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E11B5-FA51-458B-A3A3-455B8E76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653CF-C9DD-4227-A02A-800618E6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40681-56F5-4885-98F9-7B853E14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AB236-1400-4A6F-A0DF-52988D2A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EABA9-EBE1-499F-AAF8-B9666F98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F9833-49A7-4213-8045-366CB2F1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C8288-C87C-408B-99B6-2F494EFC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1B6A9-D9D6-460B-A404-E3191E98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18C6-EFE3-43D7-9699-6FA4E7F0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505EC-A245-48BF-BFC0-5DAF5F41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D2E2F-B706-460F-8AF5-5F0514A3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8D208-4991-4837-83F0-C3764F78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D2D40-8816-4070-8A59-B5D7ED00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CF122-B668-4421-8364-F3072930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29DEF-BEAE-46F4-96AB-5C44AEF7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3415C-D0F5-41B6-974A-A5F823EC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DAAC6-E823-46AE-822A-5FA33BF2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A10B3-97F0-44A6-B18C-8B210DF0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540AE-BFEF-415F-AD61-94CEE73F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1284-527C-4C7B-B7DB-1756846B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6FA8B-1F18-411C-83FA-8632B84D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FD40C-286A-4A05-9A46-8E99EF27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436E0-C642-4DD2-9846-CEB0C82F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CDB24-B002-43D5-BC98-5A8FA244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D46A7-0466-42D9-A582-9C4899BD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76E22-238A-4957-A1D1-C5FA870C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C4615-034B-404B-B1D8-9B8A3385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0F7A9-9D68-4E49-BF4A-35C87B1C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1636D-3B2E-4DEB-BFFD-929C4F1D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25AA2-B3F6-4ACD-94D6-0D3DE2B0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92FD-9A67-432C-BD4C-D5A8FC4F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22F9A-B89A-458D-B20B-FFFF0038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6BB45-7C14-4189-AACA-F7370A19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D3FB1-B9D8-4F6D-A186-40339A35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B1F96-8CCD-43AD-864B-83D5193D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BF624-7556-44DA-961B-39E58C20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FFB0E-EA8C-466C-8606-BA94A864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3D068-0DB8-4DED-A40B-BC180B50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BA62B-FD7A-4DD0-9D16-3D7A4400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E6270-533E-4FA3-ADB1-A1AB5A2F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F886A-CE88-437E-963D-7C2D2E4C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0E43-87F0-448D-ABD4-62BD1C95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C0BDE-B096-46D4-A011-F5456875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71F25-AE7C-4ACF-B436-D8A0F29E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1C668-9E09-40D5-B663-DD83E49D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43E24-F31D-4793-B99B-28A32E57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FEAE8-E125-41EC-ACC7-F0EB946A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850C2-3F71-42E3-AB6B-1DC55204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8176A-CF6A-4CD3-891E-03E9AB53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A0EDC-841B-4168-A3FA-90C20AA1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B8A35-C347-45DA-A664-F4950AB8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1C39A-1562-407F-B613-ED9AA50E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6C87-A7BE-4303-8F43-6C282CFB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B7C48-1C33-4AF4-AA9C-572C07F5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3DDFC-5BFE-4E36-9CAC-A22B2008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E8837-D73E-4E5E-90D4-D025425D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98C35-8E65-4F99-A98C-098A5F0C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6366C-F679-4F9A-BE8C-A794B167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E352-DC05-4DFE-8485-9B86D311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8780-9065-48DA-8447-1B8CEB57ADB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7C0A-EBF1-41CA-95B9-E7DE84B5D2F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8ADC-A213-4FFE-B20E-D7106629AED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F485-4C64-4040-BEA7-FF8FD9F0341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3A03-D939-420B-A7A0-D70A820D66F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E8E2-C8F1-4712-BFFA-4837100F321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E9FF-B192-46BC-8EAB-52388FE5276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pr.org/templates/story/story.php?storyId=5029173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ssues Minority Male Students Face in Colleg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Candi Lee, Karla Perez-Velez, Crystal Hardeman, and Melody May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Coach Mode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cating, matriculating, educating, and gradua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monstrate commitmen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end time and mone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vide a mentoring environ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monstrate enthusiasm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College Retention Needs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of Minority Males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National Graduation Rates of Male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434960" y="1447920"/>
          <a:ext cx="7499520" cy="4267080"/>
        </p:xfrm>
        <a:graphic>
          <a:graphicData uri="http://schemas.openxmlformats.org/drawingml/2006/table">
            <a:tbl>
              <a:tblPr/>
              <a:tblGrid>
                <a:gridCol w="2500560"/>
                <a:gridCol w="2498760"/>
                <a:gridCol w="250020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f271c"/>
                          </a:solidFill>
                          <a:latin typeface="Arial"/>
                        </a:rPr>
                        <a:t>Race/Ethni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f271c"/>
                          </a:solidFill>
                          <a:latin typeface="Arial"/>
                        </a:rPr>
                        <a:t>Na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f271c"/>
                          </a:solidFill>
                          <a:latin typeface="Arial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pa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 Ind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an/Pacific Isla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Most Common Factors Associated with Low Retention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ss of motiv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mpus life issu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amily problem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ultural differenc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nancial difficult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oor healt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Factors Associated with Low Retention cont’d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981080"/>
            <a:ext cx="7499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n responsive to male nee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ienating minority ma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cially isola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cioeconomic status/backgroun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Current Programs helping with Retention of Minority Men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stern Kentucky University – Black Men at Western (BMW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ierce College (Puyallup, WA) – THE Men’s Program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exas Community College – All Male Cla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Graduation and Success 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for Minority Males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do we know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ll and Rowan Study (2001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factors encouraging you (African –American Male) to attend colleg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are the special issues faced by you in Institutions of Higher education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problems did/do you have enrolling and staying in school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can Institutions of Higher Education do to attract more African-American male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ideas do you have for successfully educating African-American male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mplications of Hall and Rowa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The few African American males who succeed in higher education do so by virtue of exceptional skill and personal qualities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Institutions of Higher Education have done little to access other than the exceptional applicant pool among African American males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Cultural schisms exist between African American males and institutions of higher education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Racism prevails as a significant impediment to the enrollment, retention, and graduation of African American males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Diversity in the various forms is critical to the overall success of African American males in higher education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is impeding graduation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cial and economic inequit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w expectations from oth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black males, the lack of roles mode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ducation ga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thers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mmon Issu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igh Schoo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mission/Recruit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ten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radu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works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Mentor matching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ummer college course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Establishing black male student groups that provide leadership opportunitie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Programs that help with course planning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into argued that variations of levels of social and academic integration affect persistence at a college or university differently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student who is highly integrated only academically or social is at a higher risk of leaving college than is a student who is highly integrated both socially and academically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’s being done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chieving the Dream: Community Colleges Cou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year national initiative to help more community college students succeed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e Colleg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udents who have earned a B or better in courses are used as supplemental instructors. The student is paid a stipend to retake the course and serve as a role model for students who need help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’s being done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mega Psi Ph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www.npr.org/templates/story/story.php?storyId=502917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hio University and HBCU’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UNY, Male Development and Empowerment Cent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ord Is Bond”, “Phat Pockets”, “The Business of”, and “Fathers Involvement Initiative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should be done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ministrativel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aculty &amp; Staff development on university offered progra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pport for faculty &amp; staff who are the mentors of our stud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udent focu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vocate for their needs at the local, state, federal, and university level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ademically and social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ill Sans MT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ill Sans MT"/>
              </a:rPr>
              <a:t>Personal Stories?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References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ok, B. J., Cordova, D. I., (2007). Minorities in education 2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annual status report: 2007 supplement. Retrieved from American Council on Education November 4, 2008 http://www.acenet.edu/AM/Template.cfm?Section=Search&amp;Templ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/CM/ContentDisplay.cfm&amp;ContentID=23716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lam, C., Brown, G. (2005). The inclusive university: Helping minority students to choose a college and identify institutions that value diversity.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Journal of College Admissions, SP 05(187),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4-17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ederman, D. (2008).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Diversifying through football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. Retrieved November 7, 2008 from http://www.insidehighered.com/news/2008/01/11/blac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Zimbroff, J.A. (2005). Policy implications of culturally based perceptions in college choice.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Review of Policy Research, 2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6), 811-840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ale High School Student Issu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les, especially African-American males are less likely to graduate High Schoo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59 percent of African-American females whereas only 48 percent of African-American males graduated. (2003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ss likely to graduate, but also systematically excluded from advanced and college preparatory class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can make it better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ouch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yola University tracked 205 disadvantaged students who received private vouchers to attend Catholic high schools in Los Angeles and 98 percent graduate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quity Officer” = equal access to educ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ne Arundel Schools (drop out rate decreased by 2.5% in just one year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600" y="1600200"/>
            <a:ext cx="74073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ollege Recruitment/Admission Needs of Minority Males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ecision Facto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eels significant to the institution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vailable financial aid programs that offer good support for education expens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i.e. full tuition coverage, work study, housin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esence of diversity within the student body and facul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rong family support syst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cademic preparednes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Works for Minority M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inority recruitment program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rsonalized contac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raight tal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entor support and encourag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llow up contac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roup recruiting / Buddy syst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“I” versus “Us” mentality, minority males tend to no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pond well to the competitiveness within th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urrent college admissions proces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College Admissions of </a:t>
            </a: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Minority Men - Rising or Falling?</a:t>
            </a: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Total Fall Enrollment in Higher Education by Gender and Race/Ethnicity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3" name="Content Placeholder 4" descr=""/>
          <p:cNvPicPr/>
          <p:nvPr/>
        </p:nvPicPr>
        <p:blipFill>
          <a:blip r:embed="rId2"/>
          <a:stretch/>
        </p:blipFill>
        <p:spPr>
          <a:xfrm>
            <a:off x="1434960" y="1785960"/>
            <a:ext cx="749952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thletics Success, Admissions Failure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ivision 1 Colleg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inority male students are mostly athlet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dmissions offices should welcome challenges of raising the enrollment of non-athlete minority male studen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arn from athletic departmen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mmunicate with athletic staff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% of black male student who are athletes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2005-06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uke University  - 22% (7%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oise State U – 37% (2%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egon State U- 38% (2%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ice University – 47% (6%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ake Forest U – 54% (6%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21:19:51Z</dcterms:created>
  <dc:creator>Melody</dc:creator>
  <dc:description/>
  <dc:language>en-US</dc:language>
  <cp:lastModifiedBy>NCC</cp:lastModifiedBy>
  <dcterms:modified xsi:type="dcterms:W3CDTF">2008-12-09T18:43:34Z</dcterms:modified>
  <cp:revision>24</cp:revision>
  <dc:subject/>
  <dc:title>Issues Male Students Face in College</dc:title>
</cp:coreProperties>
</file>