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84C-44DE-449C-8804-A1AE09EF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3B5-6576-4831-927E-2E4863B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BFD-6318-4C15-9BD7-6AE5DE3B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996-0F02-4245-A01C-8D814E3C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07A-0DEC-45FF-98FC-4E28AEE2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375-6838-427D-A635-C3F14E9C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9D5-7464-4970-A4A3-535C037B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277-73A3-47CA-BFB9-00406406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BBA-44F1-4CEB-9DFD-CBA0C2FF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920-537A-47AD-8725-9D6DBA35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5A9-C6DC-4E7D-8D6C-8ECC2B58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E4D-F167-4C9C-B53E-6AD9887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6876-DB46-4B67-A730-1E636D09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onnie.foster@wku.ed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8762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stitutional Repositorie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trategies for the Present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              and Future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48320" y="312372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ie Foster,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, Dept. of Library Technica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ern Kentucky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wling Green 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nnie.foster@wk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SIG Conference Presentation, June 6, 2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Few More Practic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knowledgeable about legal aspects (University’s intellectual property policies, ethics policies, and IR-specific copyright 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content for the “reveal”; determine how content will be uplo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Few More Practic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knowledgeable about legal aspects (University’s intellectual property policies, ethics policies, and IR-specific copyright 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content for the “reveal”; determine how content will be uplo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publicity and marketing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Few More Practic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knowledgeable about legal aspects (University’s intellectual property policies, ethics policies, and IR-specific copyright 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content for the “reveal”; determine how content will be uplo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ublicity and marketing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 the new role for librarians, both in collec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and content up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rs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2640" y="2865600"/>
            <a:ext cx="7086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at puppy!   And turn in a thoughtful recommendation for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rs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2865600"/>
            <a:ext cx="7086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at puppy! And turn in a thoughtful recommendation for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for challe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pportunit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79856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what it 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 fruition all that you have recommended in the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9856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what it 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 fruition all that you have recommended in the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service provider for training and possible batch uploads for initial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9856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what it 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 fruition all that you have recommended in the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service provider for training and possible batch uploads for initial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aunch date, press release, and you now have an I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down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ty in content (document typ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eries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growth (rev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xpand promo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162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econd Year and Beyond: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sessment of Succes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vide the content.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SCHOLAR™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tain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opscholar" descr="The image “http://www.wku.edu/library/banner/topscholar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533520" y="838080"/>
            <a:ext cx="8096040" cy="628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50133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pSCHOLAR™ at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digitalcommons.wk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Philosophical Basis for IR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finition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3000" y="838080"/>
            <a:ext cx="6477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, the outcomes, and especially the passion of discovery enhance the meaning of the effort and of the institution itsel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les E. Glassick et al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cholarship Assess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an Francisco : Jossey-Bass, 1997), p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73630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2098800" y="1498320"/>
            <a:ext cx="4791960" cy="3792960"/>
            <a:chOff x="2098800" y="1498320"/>
            <a:chExt cx="4791960" cy="3792960"/>
          </a:xfrm>
        </p:grpSpPr>
        <p:sp>
          <p:nvSpPr>
            <p:cNvPr id="102" name="_s4100"/>
            <p:cNvSpPr/>
            <p:nvPr/>
          </p:nvSpPr>
          <p:spPr>
            <a:xfrm>
              <a:off x="2960640" y="1498320"/>
              <a:ext cx="3070080" cy="2586600"/>
            </a:xfrm>
            <a:custGeom>
              <a:avLst/>
              <a:gdLst>
                <a:gd name="textAreaLeft" fmla="*/ 0 w 3070080"/>
                <a:gd name="textAreaRight" fmla="*/ 3070440 w 3070080"/>
                <a:gd name="textAreaTop" fmla="*/ 0 h 2586600"/>
                <a:gd name="textAreaBottom" fmla="*/ 2586960 h 25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101"/>
            <p:cNvSpPr/>
            <p:nvPr/>
          </p:nvSpPr>
          <p:spPr>
            <a:xfrm rot="7200000">
              <a:off x="3621240" y="1868760"/>
              <a:ext cx="2586600" cy="3070080"/>
            </a:xfrm>
            <a:custGeom>
              <a:avLst/>
              <a:gdLst>
                <a:gd name="textAreaLeft" fmla="*/ 0 w 2586600"/>
                <a:gd name="textAreaRight" fmla="*/ 2586960 w 258660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102"/>
            <p:cNvSpPr/>
            <p:nvPr/>
          </p:nvSpPr>
          <p:spPr>
            <a:xfrm rot="14400000">
              <a:off x="2781720" y="1867320"/>
              <a:ext cx="2586240" cy="3070440"/>
            </a:xfrm>
            <a:custGeom>
              <a:avLst/>
              <a:gdLst>
                <a:gd name="textAreaLeft" fmla="*/ 0 w 2586240"/>
                <a:gd name="textAreaRight" fmla="*/ 2586600 w 2586240"/>
                <a:gd name="textAreaTop" fmla="*/ 0 h 3070440"/>
                <a:gd name="textAreaBottom" fmla="*/ 3070800 h 30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103"/>
            <p:cNvSpPr/>
            <p:nvPr/>
          </p:nvSpPr>
          <p:spPr>
            <a:xfrm>
              <a:off x="5335560" y="1971720"/>
              <a:ext cx="123192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4"/>
            <p:cNvSpPr/>
            <p:nvPr/>
          </p:nvSpPr>
          <p:spPr>
            <a:xfrm>
              <a:off x="3879720" y="4096080"/>
              <a:ext cx="123192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man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105"/>
            <p:cNvSpPr/>
            <p:nvPr/>
          </p:nvSpPr>
          <p:spPr>
            <a:xfrm>
              <a:off x="2422440" y="1971720"/>
              <a:ext cx="123192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co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109440"/>
            <a:ext cx="761976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gital research repository, dedicated to scholarly research, creative activity and other full-text learning resourc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at merit enduring and archival value and permanent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thin a 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base that supports, reflects, and showcases the intellectual life of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the University through easy sear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etrieval, and universal access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d index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cticalities and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a Task Force (Planning Group Study Group, any name will 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Task Force (Planning Group Study Group, any name will 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statement of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cticalities and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Task Force (Planning Group Study Group, any name will 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statement of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financial implications of hosted and local reposi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cticalities and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Task Force (Planning Group Study Group, any name will 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statement of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inancial implications of hosted and local reposi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on early adopters, types of content to showcase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cticalities and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Few More Practic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knowledgeable about legal aspects (University’s intellectual property policies, ethics policies, and IR-specific copyright 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36:06Z</dcterms:created>
  <dc:creator>Connie</dc:creator>
  <dc:description/>
  <dc:language>en-US</dc:language>
  <cp:lastModifiedBy>NCC</cp:lastModifiedBy>
  <dcterms:modified xsi:type="dcterms:W3CDTF">2008-05-27T19:42:21Z</dcterms:modified>
  <cp:revision>20</cp:revision>
  <dc:subject/>
  <dc:title>Institutional Repositories—Strategies for the Present and Future   </dc:title>
</cp:coreProperties>
</file>