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3000" cy="348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DS Stats--P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F6DB97-D9D0-4EDE-AF6B-A3247D55E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6"/>
          <p:cNvSpPr/>
          <p:nvPr/>
        </p:nvSpPr>
        <p:spPr>
          <a:xfrm>
            <a:off x="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DS Stats--P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0B561B-A6D7-4B1B-98C6-3517B2E24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6"/>
          <p:cNvSpPr/>
          <p:nvPr/>
        </p:nvSpPr>
        <p:spPr>
          <a:xfrm>
            <a:off x="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DS Stats--P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B7E20D-054B-41D9-8173-C4BB918C7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6"/>
          <p:cNvSpPr/>
          <p:nvPr/>
        </p:nvSpPr>
        <p:spPr>
          <a:xfrm>
            <a:off x="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DS Stats--P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E7C42E-6257-46A9-9FC5-6B10BA3BE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6"/>
          <p:cNvSpPr/>
          <p:nvPr/>
        </p:nvSpPr>
        <p:spPr>
          <a:xfrm>
            <a:off x="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DS Stats--P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3EEDA1-DAA6-469F-8415-F617BFC81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DS Stats--P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86863A-00DE-4FF8-96A2-92FFB9E72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6"/>
          <p:cNvSpPr/>
          <p:nvPr/>
        </p:nvSpPr>
        <p:spPr>
          <a:xfrm>
            <a:off x="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DS Stats--P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1A04AC-2572-46A7-BEE8-700D6FCB6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DS Stats--P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C560E3-1380-4074-859C-AF22C3F30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6"/>
          <p:cNvSpPr/>
          <p:nvPr/>
        </p:nvSpPr>
        <p:spPr>
          <a:xfrm>
            <a:off x="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DS Stats--P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B2F19A-8FF0-49E3-AA26-90D0C01D6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6"/>
          <p:cNvSpPr/>
          <p:nvPr/>
        </p:nvSpPr>
        <p:spPr>
          <a:xfrm>
            <a:off x="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DS Stats--P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2C9F8A-361D-4EB0-ABC4-FCE4590AD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6"/>
          <p:cNvSpPr/>
          <p:nvPr/>
        </p:nvSpPr>
        <p:spPr>
          <a:xfrm>
            <a:off x="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DS Stats--P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131B81-AC00-4902-A03D-C76432416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6"/>
          <p:cNvSpPr/>
          <p:nvPr/>
        </p:nvSpPr>
        <p:spPr>
          <a:xfrm>
            <a:off x="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DS Stats--P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BF08CB-6772-479A-BE04-9A8D88196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DS Stats--P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1E18AA-A8CE-46D6-A627-99FEAB0B0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6"/>
          <p:cNvSpPr/>
          <p:nvPr/>
        </p:nvSpPr>
        <p:spPr>
          <a:xfrm>
            <a:off x="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DS Stats--P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7CD98D-F1C0-4A2C-9715-31821CB8E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6"/>
          <p:cNvSpPr/>
          <p:nvPr/>
        </p:nvSpPr>
        <p:spPr>
          <a:xfrm>
            <a:off x="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DS Stats--P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ABE38F-E8BC-4CBB-B562-1B555053B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6"/>
          <p:cNvSpPr/>
          <p:nvPr/>
        </p:nvSpPr>
        <p:spPr>
          <a:xfrm>
            <a:off x="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DS Stats--P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0F23CF-7BC4-4ED9-81CD-B10D190F0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6"/>
          <p:cNvSpPr/>
          <p:nvPr/>
        </p:nvSpPr>
        <p:spPr>
          <a:xfrm>
            <a:off x="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DS Stats--P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ECCF81-685C-4592-8637-81E5A9BFB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6"/>
          <p:cNvSpPr/>
          <p:nvPr/>
        </p:nvSpPr>
        <p:spPr>
          <a:xfrm>
            <a:off x="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DS Stats--P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0F8614-19EA-4029-AEEF-EBFCE948E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6"/>
          <p:cNvSpPr/>
          <p:nvPr/>
        </p:nvSpPr>
        <p:spPr>
          <a:xfrm>
            <a:off x="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DS Stats--P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89C2D7-B626-4E07-AA26-BDA19A9F4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6"/>
          <p:cNvSpPr/>
          <p:nvPr/>
        </p:nvSpPr>
        <p:spPr>
          <a:xfrm>
            <a:off x="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DS Stats--P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429493-73D6-4821-935A-623823E08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DS Stats--P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4E8F57-CCDA-4153-9388-EE80DACBB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DS Stats--P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16F4FE-2FB3-4062-8498-CBC95ECD2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DS Stats--P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80AAE0-6886-415B-8E9C-A446BD20A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DS Stats--P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4C3309-F99B-446F-9063-E3A502269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6"/>
          <p:cNvSpPr/>
          <p:nvPr/>
        </p:nvSpPr>
        <p:spPr>
          <a:xfrm>
            <a:off x="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DS Stats--P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865C4A-80B2-4343-A13A-395AEC780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DS Stats--P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AAC889-996D-4715-95F0-6644F0497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DS Stats--P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403C31-B483-48FA-8C63-3D564F728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403C-DA17-4F38-8A6D-55A32EA85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6A46-1FCF-45C2-81BC-FF2CE2F04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0FB8-1D4C-4429-81C8-296393014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5F0F-FDF8-4AC2-A28A-998C50718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BEC1-868F-4355-BA7E-2F0ADC061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7530-ACCD-4941-B68D-8E6702410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AD81-7F95-4089-88E2-A5E12C505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243E-BC9F-4C4B-A23B-6862D4537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8F25-6776-4A1D-9036-55C104F67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4F6A-DD8D-4217-95A2-39DEF8DA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4B21-E299-4811-9D7E-BB4CF3A8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F84A-1216-4025-8DDE-A6D7E766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D3218-4EDD-428C-B1E0-2929E6E60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and S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257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dvising and  Students With Disabiliti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ril, 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Reflect Students Enrolled in Fall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ces Between HS and Colle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rolled in some special ed in HS with Least Restricted Environment and IEP’s vs. student proof of medical/psychological exams in colle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 decides in HS vs. SDS decides on accommodations based on medical/psychological exa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ent/student responsibility in HS vs. stu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sibility in colle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ivers in HS vs. substitutions in college through committee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ividual Differences Between WKU vs. 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eatment of 18 year old HS graduates, FERP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ructure—no least restrictive environme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ect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bje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ach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et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outi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f-Advoca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things remain the sam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aren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elicopter—Huey’s and Blackhawk’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on-interested, non-advocat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Advocate since early child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Registered, bu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Many on campus not registered because lac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 or knowledge of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Some with social stigma re S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ent Disability Services Offe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ive or Extended Testing sometimes 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S Office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s on C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ribes/Notet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ion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diness to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ed make up dead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pr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toring As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u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ter of Accommoda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 from SDS requesting your cooperation in providing equal access based on recent recommendations from a licensed professional, not a high school IEP or Matt 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s in Facilitating LO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S determines accommodation needed based on licensed professionals’ advice and student reco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comes to SDS to get LOA’s if did not receive them in mail or has changed schedu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takes two copies of letter to the professor for signatures and professors reco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or provides services AFTER student presents le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105160"/>
            <a:ext cx="9144000" cy="160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l 07 Students by Hours Complete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= 481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4"/>
          <p:cNvGraphicFramePr/>
          <p:nvPr/>
        </p:nvGraphicFramePr>
        <p:xfrm>
          <a:off x="380880" y="0"/>
          <a:ext cx="8305920" cy="554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0"/>
                    <a:ext cx="8305920" cy="55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PA Compariso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S to WKU Stu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Object 4"/>
          <p:cNvGraphicFramePr/>
          <p:nvPr/>
        </p:nvGraphicFramePr>
        <p:xfrm>
          <a:off x="0" y="1523880"/>
          <a:ext cx="9144000" cy="589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3880"/>
                    <a:ext cx="9144000" cy="58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6066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by hours comple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Object 4"/>
          <p:cNvGraphicFramePr/>
          <p:nvPr/>
        </p:nvGraphicFramePr>
        <p:xfrm>
          <a:off x="838080" y="685800"/>
          <a:ext cx="7315200" cy="48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685800"/>
                    <a:ext cx="731520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Line 5"/>
          <p:cNvSpPr/>
          <p:nvPr/>
        </p:nvSpPr>
        <p:spPr>
          <a:xfrm flipH="1">
            <a:off x="4800240" y="533520"/>
            <a:ext cx="1600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6172200" y="228600"/>
            <a:ext cx="17524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shman=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8"/>
          <p:cNvSpPr/>
          <p:nvPr/>
        </p:nvSpPr>
        <p:spPr>
          <a:xfrm>
            <a:off x="1447920" y="26668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228600" y="2438280"/>
            <a:ext cx="137160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iors=1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0"/>
          <p:cNvSpPr/>
          <p:nvPr/>
        </p:nvSpPr>
        <p:spPr>
          <a:xfrm flipH="1" flipV="1">
            <a:off x="5105160" y="3352320"/>
            <a:ext cx="14475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6095880" y="4419720"/>
            <a:ext cx="19814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phomores=1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3"/>
          <p:cNvSpPr/>
          <p:nvPr/>
        </p:nvSpPr>
        <p:spPr>
          <a:xfrm>
            <a:off x="2590920" y="518148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niors=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4"/>
          <p:cNvSpPr/>
          <p:nvPr/>
        </p:nvSpPr>
        <p:spPr>
          <a:xfrm flipV="1">
            <a:off x="3048120" y="4190760"/>
            <a:ext cx="6094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2362320" y="380880"/>
            <a:ext cx="11430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ds=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6"/>
          <p:cNvSpPr/>
          <p:nvPr/>
        </p:nvSpPr>
        <p:spPr>
          <a:xfrm>
            <a:off x="3429000" y="990720"/>
            <a:ext cx="2286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362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rning Disability = 217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ysical = 69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aring = 19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tal/Psychological = 67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urological = 25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scellaneous = 106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ual =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Object 4"/>
          <p:cNvGraphicFramePr/>
          <p:nvPr/>
        </p:nvGraphicFramePr>
        <p:xfrm>
          <a:off x="0" y="2516040"/>
          <a:ext cx="4038480" cy="269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16040"/>
                    <a:ext cx="4038480" cy="26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Object 11"/>
          <p:cNvGraphicFramePr/>
          <p:nvPr/>
        </p:nvGraphicFramePr>
        <p:xfrm>
          <a:off x="831960" y="2133720"/>
          <a:ext cx="7480080" cy="4635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1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2133720"/>
                    <a:ext cx="7480080" cy="46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s this happened at WKU within the last ye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or insisting that dyslexic student spel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acogenesis, anthropomorph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naiss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ademy student requesting extended testing for ma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or inquiring about how she/he can assist stud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her screaming at Director re not letting her review son’s grad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or screaming at student for having to send exam to SDS Off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DS Students—Accommodation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 = 109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3"/>
          <p:cNvGraphicFramePr/>
          <p:nvPr/>
        </p:nvGraphicFramePr>
        <p:xfrm>
          <a:off x="457200" y="2516040"/>
          <a:ext cx="4038480" cy="269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516040"/>
                    <a:ext cx="4038480" cy="26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4"/>
          <p:cNvGraphicFramePr/>
          <p:nvPr/>
        </p:nvGraphicFramePr>
        <p:xfrm>
          <a:off x="0" y="1676520"/>
          <a:ext cx="9144000" cy="5181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676520"/>
                    <a:ext cx="914400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DS Students—Testing in Cente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 = 321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Object 3"/>
          <p:cNvGraphicFramePr/>
          <p:nvPr/>
        </p:nvGraphicFramePr>
        <p:xfrm>
          <a:off x="457200" y="2516040"/>
          <a:ext cx="4038480" cy="269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516040"/>
                    <a:ext cx="4038480" cy="26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Object 4"/>
          <p:cNvGraphicFramePr/>
          <p:nvPr/>
        </p:nvGraphicFramePr>
        <p:xfrm>
          <a:off x="0" y="1447920"/>
          <a:ext cx="9144000" cy="541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447920"/>
                    <a:ext cx="914400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699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wth in Testing in S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4"/>
          <p:cNvGraphicFramePr/>
          <p:nvPr/>
        </p:nvGraphicFramePr>
        <p:xfrm>
          <a:off x="216000" y="1512720"/>
          <a:ext cx="8928000" cy="534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1512720"/>
                    <a:ext cx="8928000" cy="534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isors as Resourc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urage students to utilize SDS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the importance of LOA to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time between classes in schedu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e to SDS Office if there is an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urage student to request accommodations on National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urage faculty to purchase captioned videos and books with CD form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with departmental faculty re SDS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ember not everyone is like you but they can and will be success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than schedule m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et environment for ADD/ADHD and some autistic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ive types of testing may be just as effec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LD’s are tactile and visual lear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-Tradit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, gas money, family come fir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have a Ph.D equivalent in Life 10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ademics has to intertwine with everyday life in efficient and correct ma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ive ed sources sometimes work be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-Traditio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rograms are geared to traditional aged students—ATP, Best Expectations, Learning Communities, Homecoming, Greek Week and Big 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s this happened at WKU within the last ye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refusing to admit student on crutches to class because student was late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lind student being told to watch a video for extra credit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tudent being told by professor he does not look like he has a learning disability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lind student being ticketed for jay walking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tudent put in closet with no light to complete exam due to extended time and distraction free requirements on Letter of Accommodation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ent Disability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ces Between HS and Colle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ters of Accommo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s Offered Using Fall 07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f Ad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/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ent Disability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of Federal Law, ADA and 504 of Rehabilitation 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timate boss is US Office for Civil R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ent Disability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sion—To ensure that no otherwise qualified person with a disability is denied access or is subjected to discrimination in any program or activity provided by any public school or ent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accurate, concise, confidential services to students and faculty within confines of federal la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S is NO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O Off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ing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seling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king Permit Access Point for Temporarily Handicapped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KU Pol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sing and Retention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 Tech and NIU assassins were NOT registered with S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S is to provide access, not succes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1920" y="1523520"/>
            <a:ext cx="8991720" cy="5334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 courts rule a “reasonable” accommod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DS does not provide privileg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S is Retenio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S Services help recru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6T20:38:29Z</dcterms:created>
  <dc:creator>NCC</dc:creator>
  <dc:description/>
  <dc:language>en-US</dc:language>
  <cp:lastModifiedBy>NCC</cp:lastModifiedBy>
  <dcterms:modified xsi:type="dcterms:W3CDTF">2008-12-10T19:27:31Z</dcterms:modified>
  <cp:revision>67</cp:revision>
  <dc:subject/>
  <dc:title>Slide 1</dc:title>
</cp:coreProperties>
</file>