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041B-C88A-4BB3-BDEC-87509F52C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8D03-29E3-4E1F-A8B5-252E10CA6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5C0D-B1F6-4EC4-B679-4335CAD1D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EEF9-5E51-4C17-B2DC-6D1C1F96F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01A9-3382-4A6C-95B4-6D1DE0BA5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9780-6D7C-42F9-9C5E-DCE34AC75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5983-D412-45F5-BA56-DD016C00F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C02F-0F6B-42B8-BACF-D179751FD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EC76-AADB-40D6-B7C9-B1F67E545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6E78-3CC9-426A-8AA8-9590F6BA8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4093-A8E5-4126-8979-EBF273B74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18A4-6CE7-4390-A101-202548485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BE45-698E-4A6D-9143-2A4FC124D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F240-53BB-4FDC-B1D9-24E91F965D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E4B3-153D-404C-B2E4-75F63374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A39-CD9E-4093-9620-944641B1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7D78-64C2-411F-9848-763DA75C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576-EFAC-4AC3-88BD-795C6ADC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4CC9-1EAD-4B91-9AFA-80722D39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444E-36FA-4822-A0D1-B5AB754E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7407-E4DB-4315-9D32-654FDBEC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03DD-6DEB-413A-AD39-FDCAD7DA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E7B9-08F3-4749-B416-2224ADB9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D7E0-71D1-4B94-AF87-A4D91FDE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5D62-E03F-4464-9897-AC486BCD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7953-6AE9-4B74-B515-F63CC1CB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43E7-6944-40ED-9A96-B581F843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85E9-D217-40D5-88A8-71DE764F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95CD-8218-4038-BE6B-948CA1EE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31DA-FB3B-4036-B930-F04D52EA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9043-3FEF-4A85-A272-F6444118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BC7A9-84E2-4A45-B6A9-8B21C5BE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D5194-E14E-4202-9C6A-81CB2FCA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145D8-D60C-4C26-8140-1C8C11F4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BE312-E372-4CBC-A461-A1058C31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4B12D-6436-4E2E-B407-B0C703CB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29D-5E27-4B88-A27E-A2652B15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DE780-520E-4548-B4B0-7AC570D8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FF252-DBEB-4EDB-8FD0-120D949B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8F1F1-3A19-4E11-A3DF-431AA7C5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0C2B1-C3E8-4F52-BC56-C3737293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724DA-7204-4F34-A927-9CA8BECB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2DF52-23FA-40F9-A77F-B023D368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5080B-C8EF-4BB7-AD22-61F2AEE4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BA067-0881-407D-A7DA-01E9A346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96F71-1D4C-4524-8DC5-17D79CBF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DA11D-07DC-4E17-9D4D-8225A877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E91D-0B2B-4C7F-9B38-DE536D0B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DFFF0-4D34-4428-80AE-A11CA15F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8BBFB-7F33-4739-B23C-D024B635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D2D4C-F196-435E-A584-5DF0F084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1E9A6-1427-486F-8CB4-DE323EBA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D8B85-EEE5-4A3C-96E4-83AA4756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55343-DEA7-4F76-8219-D14D0FA2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17455-5F80-4371-A068-0F5D46C5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DB1A1-7076-48A5-AA82-29A2AFA7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F8633-6252-4C82-902F-09831790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07C16-2C28-403C-9F3D-AFC0597D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ADD-91FD-466B-B756-9DD574C1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E335E-3189-419D-A67C-3BB6CFAB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91181-118D-4DE7-B886-1DFE3F3A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F9FF0-CBC2-4C66-A75E-E379A447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90A32-D9C9-4953-9C30-FB8D64F1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E10E7-79EC-4E32-A2E8-483622A3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2451E-7D47-4897-8FDD-6311D60D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E0059-70C1-4328-92E5-03566BAE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BC0C2-CC8F-4CA3-9B71-40D25563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539E3-E79C-41BF-BF48-F8DEBDCC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2A55E-2235-47C7-889E-F9101792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7BE-7B24-4599-944F-C405C928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D7414-C5B8-4046-8600-CB63E9B7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ABC5E-E5AF-4A95-B639-1D3A1168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F40A3-8F64-47CD-9D88-7D2A8F1D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977AE-1F4C-4C41-B8FF-CACA309B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B7B2C-F3C4-4286-A3FA-56EE76D8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1CA93-BE6B-4FDD-8779-B4F27763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2CC2E-94F4-4F8E-ACAC-5E0FCC56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647AC-581E-4FF2-83FE-E5F245FC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769CC-7D03-4B73-8E20-DFB12A89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782D6-A007-428C-BD02-0A6BD9E1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7D9-DB8F-4276-8BB5-E0A44189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6910F-3DDD-4A77-AAEE-5264DE47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E273A-3061-4AA9-87A2-668F2AB4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EC782-AE27-446E-A653-863A0795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BCABC-8504-4E54-9E92-AD2E26BF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595DC-C76C-4989-8397-79B01596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805E6-C7AA-45BD-BCED-8E9D263D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E4F4B-932C-49E6-8709-0B1403F6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BBD40-F081-4A92-B42D-B870AEA2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292BB-9327-45BF-A707-8EFC4B63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C7E27-77B3-4ABB-A6E2-A80EEDA1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1F27-7898-43CC-9730-71443E80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931C8-9FB3-492B-AD88-4D6B141B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11D2A-DBA5-439F-9181-1E5DEC76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4945A-3919-4E2B-A94B-34DBA371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455CA-6614-4C51-85C1-808CCDB4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3496A-05FA-4256-89B0-D0193F18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A0F9A-347C-43F5-B5A6-47A68B15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1D0F3-7663-48CC-8585-9BB4F7DD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68579-C06D-4644-98A0-45683069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656FA-DDE5-42A0-A40A-DD1E624F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50900-97ED-4612-ABD6-047E15D9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5A32-9F72-4739-88D5-38B852C2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46F79-65C1-4587-91F2-4678FF08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9E059-A284-4B57-A78C-B0086CD5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1440A-329C-4BEE-B4E8-510FBFC4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55F4E-FB27-45C6-A4EC-EC88A156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A85D9-06F3-4710-BEC5-09123FF1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4B5B9-99E0-4467-8821-6E20613C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64847-8956-4787-9583-C57B7914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0E61-C923-4262-A0BE-193D8920D1F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E8B4-4BD7-4E62-B91D-5EB88AC6783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44FE-434B-42EB-9492-23A098E74CB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6A82-83B0-435C-B6D8-897763773AD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3A0B-6974-4A61-B8BE-4EDAFB107DE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1E13-5540-4762-9C3F-3C113CDF8EA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B70C-2E07-428A-86CD-D417092586F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4A13-1EFB-49C8-A8C5-255E9F869F2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oln.org/" TargetMode="External"/><Relationship Id="rId2" Type="http://schemas.openxmlformats.org/officeDocument/2006/relationships/hyperlink" Target="http://www.nami.org/" TargetMode="External"/><Relationship Id="rId3" Type="http://schemas.openxmlformats.org/officeDocument/2006/relationships/hyperlink" Target="http://www.activemindsoncampus.org/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378000" y="603360"/>
            <a:ext cx="8388000" cy="18478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“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Higher education, in general, is considered a privilege.” – Carrie Kuthy (enrollment services counselor Northern Essex Community Colleg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ptop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oks on Ta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pe Recorder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gitized Handou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rd prediction software to help with poor keyboarding ski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itation softw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rphones during testing sess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ype &amp; Speak or Braille &amp; Speak compu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e tak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Northern Essex Community College (Massachusetts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ote taker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lassroom Aid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omputer Softwa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utoring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Keble College (Oxford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cribe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n house Caretaker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pecial Diet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isabled Student Allowanc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Vibrating or visual fire alarm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ek out help when you need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p out how you will use your ti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an ahe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arn how you lear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 an active learn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an effective study rout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rganize your study spa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rt ea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dentify repeated proble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quire about resou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757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aculty &amp; Administrator Modules in Higher Education (FAME –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oln.or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ational Alliance on Mental Health (NAMI –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www.nami.or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tive Minds (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www.activemindsoncampus.or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le 2" descr=""/>
          <p:cNvPicPr/>
          <p:nvPr/>
        </p:nvPicPr>
        <p:blipFill>
          <a:blip r:embed="rId4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hat are the most common learning disabilities on college campuse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yslexia &amp; Dysgraph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tention Deficit &amp; Hyperactive Disor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polar Disor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st Traumatic Stress Disor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pression &amp; Anxiety Disor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Dyslexia &amp; Dysgraphi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aking notes in clas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ave difficulty processing auditory instruct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mpaired writing &amp; oral express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mpaired reading comprehens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ADH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oncentration skill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emory recall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me managemen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ifficulty following direction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Bipolar &amp; PTS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consistency of performance in class &amp; assign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atigu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consistency of information reten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fficulty interacting with classma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hat are the most common learning disabilities on college campuse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sually Impair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aring Impair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erebral Pals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ple Scleros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Visually Impair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aching strategies u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fficult to interact with other stud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not participate in class discussion without assist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creased accessibility to class handou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earing Impair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fficult to create written langu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fficulty with vocabulary expan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fficulty with reading comprehen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obility Disabilities (cerebral palsy, multiple sclerosis, etc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mited mobility in the classro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fficulty concentra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minished stamina on extended class proj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cal suppor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amily, Psychiatrists, Power of Attorney paperwo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e – Roger Diel (University of Wisconsin-Madis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ller classroom setting or community colle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ound floor dorm roo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ndicapped park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elchair acc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STUDENT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it in the most non distractive part of the classroom (normally the front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Avoid drinking or chewing gum in clas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Bring a laptop to take notes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ecord the lectur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omplete lab projects on portable station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Exercise plan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Nutritious meal plan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No classes before 11am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llow extended test tim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ive different modes of assess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rovide alternate forms of assignments (print, online, audiotap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view assignment in clas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each mnemonic de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peat out loud what is on the chalkboar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oint out who is speaking in the classroo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t down to talk to a student in a wheelchai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2:59:21Z</dcterms:created>
  <dc:creator>Jovon Bell</dc:creator>
  <dc:description/>
  <dc:language>en-US</dc:language>
  <cp:lastModifiedBy>NCC</cp:lastModifiedBy>
  <dcterms:modified xsi:type="dcterms:W3CDTF">2008-12-10T19:31:31Z</dcterms:modified>
  <cp:revision>15</cp:revision>
  <dc:subject/>
  <dc:title>General Needs of Disabled College Students</dc:title>
</cp:coreProperties>
</file>